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8B92E-C401-4264-969B-68152CCD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42FD1-1B51-4E47-892D-0D5EAEDB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91EED-B266-418F-B6DB-44630D48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11A30-B505-4E37-A0EE-A923466E2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3117-AA47-4A43-8B3D-F03E5787E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F360-FB89-4A8B-981A-4E67FEC2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8265-A342-4A34-90B6-892B4649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EEEE-44D4-458E-830C-B1D9537D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0788-7986-47C3-A110-81F96AB0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C8E2-4E59-415C-943C-68736A41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7059-384E-4126-B05F-87D9A319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CBEF0-6F77-400F-B2E2-E0087733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5681-7425-477B-AABD-6A67E793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CD3C-F8B6-4CEC-B47E-59930EF1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E54F-4F1B-4399-B60E-773A813D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42C9-3B17-468E-9FB9-6EBA5F82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7879-8D7B-4E87-B2A5-25111B5E9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4C6C7-0F9F-4FAB-B9CC-CF270B18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C4E90-5495-4E62-B0E2-135E2BB9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430A6-49BA-4F2E-9AE1-BC0D4E74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3AD2F-4A4E-4D22-B7BC-CA638825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04E9A-37D9-43E4-AD5D-75F430A6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BED2D-DA8F-4775-ABD3-4985A1DA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BBAE4-C9C6-4492-B9EF-3D97A94E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CE28-3A52-419C-87F8-3697C1F15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B3FF-09CF-4E57-B70D-E69B6F2DE7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arallelism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om jogs, swims, and __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he is kick box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kick box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he kick box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om jogs, swims, and __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he is kick box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kick box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he kick box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film had many stars, used various special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ffects, and ________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violen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featured graphic violen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it was viol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film had many stars, used various special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ffects, and ________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violen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featured graphic violen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it was viol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6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 think that learning a new language is harde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an 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mat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o learn mat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learning mat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6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 think that learning a new language is harde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an 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mat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o learn mat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learning mat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7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r some very shy people, giving a speech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an be as frightening as __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having a serious illnes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llnes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o have an illnes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7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r some very shy people, giving a speech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an be as frightening as __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having a serious illnes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llnes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o have an illnes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8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’d rather be lucky or hardworking tha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o have tal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having tal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alent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8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’d rather be lucky or hardworking tha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o have tal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having tal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talent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What is parallelism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arallelis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ans that similar parts of a sentence have the same structure: nouns are with nouns, verbs with verbs, and phrases with phras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O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ARALLE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I lik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nging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kayaking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and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o danc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ARALLE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I lik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nging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kayaking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and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ancing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at football team has both a good offens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nd __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t has a good defen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a good defen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having a good defen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at football team has both a good offens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nd __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t has a good defen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a good defen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having a good defen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Choose the correct answer to fill i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ob is not only loyal to friends but also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he is friendly to strang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o be friendly to strang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friendly to strang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Choose the correct answer to fill i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ob is not only loyal to friends but also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he is friendly to strang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o be friendly to strang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friendly to strang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72388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ke sure to use parallelism in the following cases. (See your textbook for more details and examples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hen joining two or more items with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and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or: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The party featured a four-foot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cake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and a singing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gorill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n comparisons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Taking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the train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s as fast as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driving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ith certain paired word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ik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both/and, either/or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neither/no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: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arlize both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bakes bread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fixes car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lla’s job responsibilities include ____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raining, and informing workers of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ompany polici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o hir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hir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hir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lla’s job responsibilities include ____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raining, and informing workers of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ompany polici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o hir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hir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hir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D) none of the above; 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hiring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is the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orrect answ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enry likes pizza more than 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spinac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o eat spinac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o be eating spinac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enry likes pizza more than 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spinac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o eat spinac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o be eating spinac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e drove to the store to buy milk, eggs, and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o get brea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brea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getting brea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e drove to the store to buy milk, eggs, and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o get brea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brea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getting brea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6:19:37Z</dcterms:created>
  <dc:creator>BSM</dc:creator>
  <dc:description/>
  <dc:language>en-US</dc:language>
  <cp:lastModifiedBy>BSM</cp:lastModifiedBy>
  <dcterms:modified xsi:type="dcterms:W3CDTF">2008-02-14T17:14:27Z</dcterms:modified>
  <cp:revision>160</cp:revision>
  <dc:subject/>
  <dc:title>Sentence Fragments</dc:title>
</cp:coreProperties>
</file>